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A5C-7AFC-4F26-8FBC-8EFC6240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9E1-92B8-402F-A0D7-D468F454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229-7259-4E84-B1E6-499EAF9E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AC9-B116-43C7-85EE-88C1E273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629-32FA-403B-9D94-9587A50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B77-0A9D-40B8-9E20-68326699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558-7D15-4252-A85C-0BB8AC2B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19B-B094-45E7-9FCA-251F1881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04E-4FA7-4051-8D1F-0F8CB7E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6C8-3824-4694-8332-B8F12BF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011-EAD0-4139-8A5E-F6BBB06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94E-0972-4104-8652-3D3F445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891A-41E4-42E3-93E9-9F24A9E2F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581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48400" y="228600"/>
            <a:ext cx="3196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are in yellow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861840"/>
            <a:ext cx="8763120" cy="581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3273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341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62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154320" y="6461280"/>
            <a:ext cx="59961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it!  Enjoy your experience with the wikispa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26:49Z</dcterms:created>
  <dc:creator>fcps</dc:creator>
  <dc:description/>
  <dc:language>en-US</dc:language>
  <cp:lastModifiedBy>fcps</cp:lastModifiedBy>
  <dcterms:modified xsi:type="dcterms:W3CDTF">2008-10-16T01:27:06Z</dcterms:modified>
  <cp:revision>1</cp:revision>
  <dc:subject/>
  <dc:title>Slide 1</dc:title>
</cp:coreProperties>
</file>